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8296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6252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304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98296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76252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78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296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252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304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296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252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78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7861320" y="6343560"/>
          <a:ext cx="1176480" cy="4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61320" y="6343560"/>
                    <a:ext cx="1176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7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6881760" y="6399360"/>
            <a:ext cx="863640" cy="382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1000080"/>
            <a:ext cx="9150480" cy="4608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928800"/>
            <a:ext cx="9150480" cy="2700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960480"/>
            <a:ext cx="9150480" cy="4608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440" y="903240"/>
            <a:ext cx="9150480" cy="2700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440" y="6224760"/>
            <a:ext cx="9150480" cy="4572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440" y="6251400"/>
            <a:ext cx="9150480" cy="6372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509760" y="6448320"/>
            <a:ext cx="124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7240" y="641520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48C04-B4B4-4F0C-95C6-DAF232641EE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7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28760" y="1076400"/>
            <a:ext cx="70200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600000"/>
                </a:solidFill>
                <a:latin typeface="Arial"/>
              </a:rPr>
              <a:t>Meta-Programming with Modelica</a:t>
            </a:r>
            <a:br>
              <a:rPr sz="4000"/>
            </a:br>
            <a:br>
              <a:rPr sz="3600"/>
            </a:br>
            <a:r>
              <a:rPr b="1" lang="en-US" sz="3600" spc="-1" strike="noStrike">
                <a:solidFill>
                  <a:srgbClr val="600000"/>
                </a:solidFill>
                <a:latin typeface="Arial"/>
              </a:rPr>
              <a:t>for MetaModeling and Model Transformation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44880" y="4691160"/>
            <a:ext cx="528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Peter Fritzson, Adrian Pop, Martin Sjöl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OpenModelica Course, 2010-11-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03040" y="6480"/>
            <a:ext cx="8940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imple Expression Interpreter – with equation keyword, match, c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22440" y="1536840"/>
            <a:ext cx="5903640" cy="4484520"/>
            <a:chOff x="622440" y="1536840"/>
            <a:chExt cx="5903640" cy="4484520"/>
          </a:xfrm>
        </p:grpSpPr>
        <p:sp>
          <p:nvSpPr>
            <p:cNvPr id="172" name=""/>
            <p:cNvSpPr/>
            <p:nvPr/>
          </p:nvSpPr>
          <p:spPr>
            <a:xfrm>
              <a:off x="754200" y="1687680"/>
              <a:ext cx="5541840" cy="4333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2440" y="1536840"/>
              <a:ext cx="5576760" cy="437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3480" y="1554120"/>
              <a:ext cx="586260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function eval "Evaluates integer expression trees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input  Exp     exp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output Integer intval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intval :=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atchcontinue ex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local Integer v1,v2; Exp e1,e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INTconst(v1) then v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PLUS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+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SUB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-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MUL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*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DIV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/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NEGop(e1) 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val(e1) = v1; then  -v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nd eval;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975360" y="2646360"/>
            <a:ext cx="240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Local variables with scope inside case expres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85960" y="2825640"/>
            <a:ext cx="2724120" cy="23652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54360" y="2914560"/>
            <a:ext cx="2248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89760" y="3801960"/>
            <a:ext cx="202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Local equations with local unknowns v1, v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55760" y="3935520"/>
            <a:ext cx="3233880" cy="21564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5080" y="3929040"/>
            <a:ext cx="20826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00920" y="4361040"/>
            <a:ext cx="127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A returned val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38640" y="4329000"/>
            <a:ext cx="630360" cy="24156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9240" y="4451400"/>
            <a:ext cx="1104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77160" y="3179880"/>
            <a:ext cx="216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Pattern binding local pattern variables e1,  e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11440" y="3287880"/>
            <a:ext cx="1353960" cy="22860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1160" y="3321000"/>
            <a:ext cx="3924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03040" y="-64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ransformation Example</a:t>
            </a:r>
            <a:br>
              <a:rPr sz="2800"/>
            </a:b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imple Symbolic Differentia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77840" y="1095480"/>
            <a:ext cx="4341600" cy="5024160"/>
            <a:chOff x="177840" y="1095480"/>
            <a:chExt cx="4341600" cy="5024160"/>
          </a:xfrm>
        </p:grpSpPr>
        <p:sp>
          <p:nvSpPr>
            <p:cNvPr id="190" name=""/>
            <p:cNvSpPr/>
            <p:nvPr/>
          </p:nvSpPr>
          <p:spPr>
            <a:xfrm>
              <a:off x="247680" y="1247760"/>
              <a:ext cx="4271760" cy="487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7840" y="1130400"/>
              <a:ext cx="4294080" cy="492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8080" y="1095480"/>
              <a:ext cx="422568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protected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functio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diff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Exp exp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timeva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outpu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Exp diffExp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diffExpr :=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matchcontinu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expr,timevar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local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d,id1,id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xp e1prim,e2prim,e1,e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der of constan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INT(_), _)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1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der of time variabl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(IDENT(id1), id2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ru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= id1 ==&amp; id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1" lang="sv-SE" sz="1400" spc="-1" strike="noStrike">
                  <a:solidFill>
                    <a:srgbClr val="8b008b"/>
                  </a:solidFill>
                  <a:latin typeface="Courier New"/>
                </a:rPr>
                <a:t>1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</a:t>
              </a:r>
              <a:r>
                <a:rPr b="1" lang="sv-SE" sz="1200" spc="-1" strike="noStrike">
                  <a:solidFill>
                    <a:srgbClr val="008200"/>
                  </a:solidFill>
                  <a:latin typeface="Courier New"/>
                </a:rPr>
                <a:t>der of time-independent variabl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IDENT(_), _)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1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648320" y="1095480"/>
            <a:ext cx="4356000" cy="5048280"/>
            <a:chOff x="4648320" y="1095480"/>
            <a:chExt cx="4356000" cy="5048280"/>
          </a:xfrm>
        </p:grpSpPr>
        <p:sp>
          <p:nvSpPr>
            <p:cNvPr id="194" name=""/>
            <p:cNvSpPr/>
            <p:nvPr/>
          </p:nvSpPr>
          <p:spPr>
            <a:xfrm>
              <a:off x="4719600" y="1247760"/>
              <a:ext cx="4284720" cy="489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48320" y="1130400"/>
              <a:ext cx="4306680" cy="494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76760" y="1095480"/>
              <a:ext cx="4238640" cy="45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(e1+e2)’ =&gt; e1’+e2’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ADD(e1,e2),i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ADD(e1prim,e2prim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(e1/e2)’ =&gt; (e1’*e2 – e1*e2’)/e2*e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DIV(e1,e2),i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DIV(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SUB(MUL(e1prim,e2),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 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UL(e1,e2prim)),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UL(e2,e2)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(-e1)’ =&gt; -e1’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NEG(e1),i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NEG(e1prim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General Syntactic Structure of match-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3040" y="1125360"/>
            <a:ext cx="1359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447920" y="1206360"/>
            <a:ext cx="6805440" cy="4329360"/>
            <a:chOff x="1447920" y="1206360"/>
            <a:chExt cx="6805440" cy="4329360"/>
          </a:xfrm>
        </p:grpSpPr>
        <p:sp>
          <p:nvSpPr>
            <p:cNvPr id="200" name=""/>
            <p:cNvSpPr/>
            <p:nvPr/>
          </p:nvSpPr>
          <p:spPr>
            <a:xfrm>
              <a:off x="1569960" y="1325520"/>
              <a:ext cx="6683400" cy="4210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7920" y="1206360"/>
              <a:ext cx="6683400" cy="42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55840" y="1222200"/>
              <a:ext cx="664056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&lt;expr&gt;  &lt;opt-local-decl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nd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matchcontinue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1520" y="23184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emantics of Local Equations in match-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3040" y="1125360"/>
            <a:ext cx="84582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algebraic equations are allowed, no differential equ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locally declared variables (local unknowns) declared by local declarations within the case expression are solved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ions are solved in the order they are declared. (This restriction may be removed in the futur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n equation or an expression in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branch of a matchcontinue-expression fails, all local variables become unbound, and matching continues with the next branch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01520" y="37152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emantics of Local Equations  cont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3040" y="1125360"/>
            <a:ext cx="84074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tain equations in match-expressions do not solve for any variables – they may be called "constraints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 variables are already bound in these eq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The equation may either be fulfilled (succeed) or not (fai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us, there can locally be more equations than unbound variables, if including the constra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201680" y="3262320"/>
            <a:ext cx="4557600" cy="1598760"/>
            <a:chOff x="1201680" y="3262320"/>
            <a:chExt cx="4557600" cy="1598760"/>
          </a:xfrm>
        </p:grpSpPr>
        <p:sp>
          <p:nvSpPr>
            <p:cNvPr id="208" name=""/>
            <p:cNvSpPr/>
            <p:nvPr/>
          </p:nvSpPr>
          <p:spPr>
            <a:xfrm>
              <a:off x="1282680" y="3308400"/>
              <a:ext cx="4476600" cy="1552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01680" y="3262320"/>
              <a:ext cx="4476960" cy="15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local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Real x=5; Integer y = 10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rue = x&gt;4;   // Succeeds!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rue = y&lt;10;  // Fails!!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List Data Stru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3040" y="1125360"/>
            <a:ext cx="869976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type-expr&gt; is a list type 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type RealList =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;   type is a list of re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lis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variable that is a list of re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l1,el2,el3, ...) is a list data constructor that creates a list of elements of identical typ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}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) empty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2,3,4}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2,3,4) list of integ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{el1,el2,el3, ...} overloaded array or list constructor, interpreted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...)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...) depending on type contex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} or lis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notes an empty reference to a list or tree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dds an element in front of the li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returns the resulting lis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erator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What Does PolyMorphic Mea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lyMorphic – adapt to multiple typ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ly – multiple, morphic – adap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6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dard – An operation is only defined for one type, e.g.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arrayInsertElement(intelement, intArr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polymorphic function is defined for multiple types, e.g. elements in an array can be of any type: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arrayInsertElement(anyElement, anyArr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Predefined Polymorphic List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27080" y="1171440"/>
            <a:ext cx="4470480" cy="5023080"/>
            <a:chOff x="127080" y="1171440"/>
            <a:chExt cx="4470480" cy="5023080"/>
          </a:xfrm>
        </p:grpSpPr>
        <p:sp>
          <p:nvSpPr>
            <p:cNvPr id="217" name=""/>
            <p:cNvSpPr/>
            <p:nvPr/>
          </p:nvSpPr>
          <p:spPr>
            <a:xfrm>
              <a:off x="200160" y="1324080"/>
              <a:ext cx="4397400" cy="4870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7080" y="1204920"/>
              <a:ext cx="4419360" cy="492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5520" y="1171440"/>
              <a:ext cx="4349880" cy="39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pen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pend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vers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vers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gt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Integer len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gth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711680" y="1158840"/>
            <a:ext cx="4430880" cy="5048280"/>
            <a:chOff x="4711680" y="1158840"/>
            <a:chExt cx="4430880" cy="5048280"/>
          </a:xfrm>
        </p:grpSpPr>
        <p:sp>
          <p:nvSpPr>
            <p:cNvPr id="221" name=""/>
            <p:cNvSpPr/>
            <p:nvPr/>
          </p:nvSpPr>
          <p:spPr>
            <a:xfrm>
              <a:off x="4782960" y="1311120"/>
              <a:ext cx="4359600" cy="489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11680" y="1193760"/>
              <a:ext cx="4381560" cy="494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41920" y="1158840"/>
              <a:ext cx="4311720" cy="47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b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Eltype elem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Boolean resul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be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Integer elindex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Eltype elem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h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le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Type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Integer  elindex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Type lst3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ype ListType = list&lt;Eltype&gt;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03040" y="19368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Function Formal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3040" y="1125360"/>
            <a:ext cx="87505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 can be passed as actual arguments at function cal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checking done on the function formal parameter type signature, not including the actual names of inputs and outputs to the passed fun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58840" y="2111400"/>
            <a:ext cx="8885160" cy="1847880"/>
            <a:chOff x="258840" y="2111400"/>
            <a:chExt cx="8885160" cy="1847880"/>
          </a:xfrm>
        </p:grpSpPr>
        <p:sp>
          <p:nvSpPr>
            <p:cNvPr id="227" name=""/>
            <p:cNvSpPr/>
            <p:nvPr/>
          </p:nvSpPr>
          <p:spPr>
            <a:xfrm>
              <a:off x="401760" y="2135160"/>
              <a:ext cx="8742240" cy="182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8840" y="2111400"/>
              <a:ext cx="8742240" cy="18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intListMap   "Map over a list of integers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list&lt;Integer&gt; in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Integer&gt; out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input Integer x1; output Integer x2; end Functyp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intListMap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17440" y="3975120"/>
            <a:ext cx="8926560" cy="2144520"/>
            <a:chOff x="217440" y="3975120"/>
            <a:chExt cx="8926560" cy="2144520"/>
          </a:xfrm>
        </p:grpSpPr>
        <p:sp>
          <p:nvSpPr>
            <p:cNvPr id="230" name=""/>
            <p:cNvSpPr/>
            <p:nvPr/>
          </p:nvSpPr>
          <p:spPr>
            <a:xfrm>
              <a:off x="378000" y="4033800"/>
              <a:ext cx="8766000" cy="2085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7440" y="3975120"/>
              <a:ext cx="8766360" cy="208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8600" y="3979800"/>
              <a:ext cx="870732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Map    "Map over a list o elements of Type_a, a type parameter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list&lt;Type_a&gt; in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Type_a&gt; out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Type_a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 input Type_a x1; output Type_a x2; end Functyp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Map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03040" y="-190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Calling Functions with Function Formal Parameters and/or Parameterized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3040" y="1125360"/>
            <a:ext cx="875052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with passed function argument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_list_map(add1,intlst1)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ed using type 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r uses type inference to derive type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aceable type parame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_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Integ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input list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&lt;Integer&gt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Map(add1, intlst1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1200" y="2933640"/>
            <a:ext cx="8636040" cy="1460520"/>
            <a:chOff x="241200" y="2933640"/>
            <a:chExt cx="8636040" cy="1460520"/>
          </a:xfrm>
        </p:grpSpPr>
        <p:sp>
          <p:nvSpPr>
            <p:cNvPr id="236" name=""/>
            <p:cNvSpPr/>
            <p:nvPr/>
          </p:nvSpPr>
          <p:spPr>
            <a:xfrm>
              <a:off x="396720" y="2973240"/>
              <a:ext cx="8480520" cy="1420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1200" y="2933640"/>
              <a:ext cx="8480520" cy="142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2360" y="2938320"/>
              <a:ext cx="84232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call function intListMap   "Map over a list of integers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tlst2 := intListMap(add1, intlst1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4160" y="4559400"/>
            <a:ext cx="8673840" cy="1638360"/>
            <a:chOff x="254160" y="4559400"/>
            <a:chExt cx="8673840" cy="1638360"/>
          </a:xfrm>
        </p:grpSpPr>
        <p:sp>
          <p:nvSpPr>
            <p:cNvPr id="240" name=""/>
            <p:cNvSpPr/>
            <p:nvPr/>
          </p:nvSpPr>
          <p:spPr>
            <a:xfrm>
              <a:off x="411120" y="4605480"/>
              <a:ext cx="8516880" cy="159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4160" y="4559400"/>
              <a:ext cx="8516880" cy="159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4960" y="4564080"/>
              <a:ext cx="84600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call function listMap   "Map over a list of Type_a – a type parameter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tlst2 := listMap(add1, intlst1);  // The type parameter is inferre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Extensibility and Modularity of Modeling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and simulation tools are too monolith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s and tools need to be extensible and modu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, query, manipulation, composition and management of model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for modeling of operations on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uple Data Stru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3040" y="1125360"/>
            <a:ext cx="8775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ples are anonymous records without field n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ple&lt;...&gt; – tuple type constructor (keyword not need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ype VarBND  = tuple&lt;Ident, Integer&gt;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uple&lt;Real,Integer&gt; realintpair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3.14, "this is a string"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ica functions with multiple results return tu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,b,c) := foo(x, 2, 3, 5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Option Type Constru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3040" y="1125360"/>
            <a:ext cx="869976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type constructor, parameterized by some type (e.g.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 creates a kind of uniontype with the predefined constructor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SOME(...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ith no arguments automatically belongs to any option type. A constructor call such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OME(x1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he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x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has the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has the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&lt;Type_a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ghly equivalent 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888840" y="4660920"/>
            <a:ext cx="7085160" cy="1371600"/>
            <a:chOff x="888840" y="4660920"/>
            <a:chExt cx="7085160" cy="1371600"/>
          </a:xfrm>
        </p:grpSpPr>
        <p:sp>
          <p:nvSpPr>
            <p:cNvPr id="248" name=""/>
            <p:cNvSpPr/>
            <p:nvPr/>
          </p:nvSpPr>
          <p:spPr>
            <a:xfrm>
              <a:off x="1015920" y="4699080"/>
              <a:ext cx="6958080" cy="1333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88840" y="4660920"/>
              <a:ext cx="695808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96760" y="4665600"/>
              <a:ext cx="69120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iontype Op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NONE  end NONE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SOME  Type_a x1;  end SOME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placeable type Type_a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subtypeof Any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 Option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14400" y="2082960"/>
            <a:ext cx="6729480" cy="771480"/>
            <a:chOff x="914400" y="2082960"/>
            <a:chExt cx="6729480" cy="771480"/>
          </a:xfrm>
        </p:grpSpPr>
        <p:sp>
          <p:nvSpPr>
            <p:cNvPr id="252" name=""/>
            <p:cNvSpPr/>
            <p:nvPr/>
          </p:nvSpPr>
          <p:spPr>
            <a:xfrm>
              <a:off x="1035000" y="2103480"/>
              <a:ext cx="6608880" cy="750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14400" y="2082960"/>
              <a:ext cx="6608880" cy="75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20880" y="2085840"/>
              <a:ext cx="6567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replaceable type Type_a subtypeof Any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ype Option_a = Option&lt;Type_a&gt;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03040" y="23184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esting for Fail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3040" y="1087560"/>
            <a:ext cx="894096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ocal equation may fail or succe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builtin equation oper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ail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rg) succeeds i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ails, whe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local equ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876240" y="4394160"/>
            <a:ext cx="6705720" cy="1164240"/>
            <a:chOff x="876240" y="4394160"/>
            <a:chExt cx="6705720" cy="1164240"/>
          </a:xfrm>
        </p:grpSpPr>
        <p:sp>
          <p:nvSpPr>
            <p:cNvPr id="258" name=""/>
            <p:cNvSpPr/>
            <p:nvPr/>
          </p:nvSpPr>
          <p:spPr>
            <a:xfrm>
              <a:off x="1025640" y="4427640"/>
              <a:ext cx="6292800" cy="946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76240" y="4394160"/>
              <a:ext cx="6332760" cy="9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25560" y="4398840"/>
              <a:ext cx="6656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((id2,_) :: rest, id)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failure(true =  id ==&amp; id2);  value = lookup(rest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then valu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44600" y="3513240"/>
            <a:ext cx="396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, testing for failure in Modelic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0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 fill="hold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Generating a fail "Exception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ail(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ll fail the current case-branch in the match-expression and continue with the next branc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ere are no more case-branches, the enclosing function will fai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xpression or equation may fail for other reasons, e.g. division by zero, no match, unsolvable equation, et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as-expressions in Pattern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unbound local variable (declar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can be set equal to an expression in a pattern expression through an as-expresson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used to give another name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ame variable may only be associated with one 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value of the expression equation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i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 as Absyn.IDENT("der"), expl,b,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atch and matchcontin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006560"/>
            <a:ext cx="91440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Modelica has two different match-expres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continue runs all matching cases in order until it finds one that succee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 runs only the first matching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both are useful to describe different program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79280" y="3192480"/>
            <a:ext cx="5219640" cy="1847880"/>
            <a:chOff x="179280" y="3192480"/>
            <a:chExt cx="5219640" cy="1847880"/>
          </a:xfrm>
        </p:grpSpPr>
        <p:sp>
          <p:nvSpPr>
            <p:cNvPr id="269" name=""/>
            <p:cNvSpPr/>
            <p:nvPr/>
          </p:nvSpPr>
          <p:spPr>
            <a:xfrm>
              <a:off x="263520" y="3216240"/>
              <a:ext cx="5135400" cy="182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9280" y="3192480"/>
              <a:ext cx="5135760" cy="18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_ := match i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ase 1 then fail(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match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060720" y="3600360"/>
            <a:ext cx="5759280" cy="2698920"/>
            <a:chOff x="3060720" y="3600360"/>
            <a:chExt cx="5759280" cy="2698920"/>
          </a:xfrm>
        </p:grpSpPr>
        <p:sp>
          <p:nvSpPr>
            <p:cNvPr id="272" name=""/>
            <p:cNvSpPr/>
            <p:nvPr/>
          </p:nvSpPr>
          <p:spPr>
            <a:xfrm>
              <a:off x="3152880" y="3633840"/>
              <a:ext cx="5667120" cy="2665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60720" y="3600360"/>
              <a:ext cx="5667480" cy="26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_ := matchcontinue i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ase i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This constraint needs to be added to th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beginning of every subsequent cas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alse = i == 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ummary of New MetaModelica Reserved 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7840" y="1006560"/>
            <a:ext cx="896616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Underscore is a reserved word used as a pattern placeholder, name placeholder in anonymous functions, types, classes, et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atc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in match-express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atchcontinu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in matchcontinue-express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in match/matchcontinue-express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for local declarations in match expressions, et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uniontyp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union type declarations, e.g. tree data typ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 for as-express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ummary of New Reserved Words Cont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uld be a reserved word, but this is not necessary since it is only 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(...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p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predefined parameterized union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ummary of New Builtin Functions and Ope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lt;...&gt; – list type constructor, in type contex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lt;...&gt; – tuple type construc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...) – list data constructor, in expression contex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– attach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t front of list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) –  Raise fail exception, having null val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..., ..., ...) o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List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pera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3080" y="1163520"/>
            <a:ext cx="834372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-modeling increasingly important, also for the Modelica language and its ap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-modeling/meta-programming extensions allow writing a Modelica compiler in Model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ons are recursive union types (trees), lists, and match-expressions – standard constructs found in functional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Modelica compiler implemented using MetaModelica extensions since March 2006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tstrapping - Ongoing work to compile OpenModelica compiler using itself, completed winter 2010 - spring 20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ome Semantics Modeling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3040" y="1125360"/>
            <a:ext cx="8382240" cy="53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bility - allow models to also model language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tologies to classify application domai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 example, semantic we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ation-based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ica – hybrid differential algebraic eq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ngle-assignment equations – functional languages, SOS/Natural seman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Unification equations: logic programming and functional languages, SOS/Natural seman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an usually be efficiently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ic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irst-order log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ften computationally intractable for realistic applications in its general 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eta-Level Operations on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re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Qu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ip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mpo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ipulation of model equations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ptimization purpo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arallel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 che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mulation with different sol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ow model packages for tool ext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 Automatic PDE discretization sche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eta-Level Operations on Models, Co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configuration for simulation purpo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 s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ization via xml data files or datab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 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a simulation and display a resu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more simulations in parall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Handle simulation failures and continue the simulation in a different w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generate ONLY specific data from a sim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manipulate simulation data for export to another t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eta-Modelica Compiler (MMC) and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Modelica is an extend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bse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odel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RML compiler supports only MetaModel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MC supports Modelica 3.1 + MetaModel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for development of OM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MetaModelica Language properti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odelica syntax and base semantic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attern matching (named/position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ocal equations (local within express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Recursive tree data struct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ists and tu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Garbage collection of heap-allocated da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Arrays (different from standard Modelica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Vectors (array with local update as in standard Modelica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olymorphic fun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Function formal parameters to fun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Simple builtin exception (failure) handling mechanis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A Simple match-Expression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3040" y="1125360"/>
            <a:ext cx="75186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, returning a number, given a str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282680" y="2120760"/>
            <a:ext cx="4051440" cy="2971800"/>
            <a:chOff x="1282680" y="2120760"/>
            <a:chExt cx="4051440" cy="2971800"/>
          </a:xfrm>
        </p:grpSpPr>
        <p:sp>
          <p:nvSpPr>
            <p:cNvPr id="102" name=""/>
            <p:cNvSpPr/>
            <p:nvPr/>
          </p:nvSpPr>
          <p:spPr>
            <a:xfrm>
              <a:off x="1355760" y="2281320"/>
              <a:ext cx="3978360" cy="2811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82680" y="2120760"/>
              <a:ext cx="3978360" cy="281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87360" y="2131920"/>
              <a:ext cx="395136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String s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Real   x;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x :=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case "one"   then 1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case "two"   then 2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case "three" then 3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else              0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ree Types – uniontype Declaration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3040" y="1125360"/>
            <a:ext cx="37576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 types specifie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one or more record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 types can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curs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can reference themsel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xp type is a union type of three record typ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 constructors INT, NEG and AD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usage is abstract syntax tre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000680" y="1816200"/>
            <a:ext cx="5067000" cy="1460520"/>
            <a:chOff x="4000680" y="1816200"/>
            <a:chExt cx="5067000" cy="1460520"/>
          </a:xfrm>
        </p:grpSpPr>
        <p:sp>
          <p:nvSpPr>
            <p:cNvPr id="108" name=""/>
            <p:cNvSpPr/>
            <p:nvPr/>
          </p:nvSpPr>
          <p:spPr>
            <a:xfrm>
              <a:off x="4054320" y="1882800"/>
              <a:ext cx="5013360" cy="1393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00680" y="1816200"/>
              <a:ext cx="5013000" cy="139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06800" y="1822320"/>
              <a:ext cx="49798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INT  Integer x1;     end INT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NEG  Exp x1;         end NEG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ADD  Exp x1; Exp x2; end ADD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959280" y="12762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Modelica  tree type declar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804360" y="3884760"/>
            <a:ext cx="1397880" cy="1285560"/>
            <a:chOff x="6804360" y="3884760"/>
            <a:chExt cx="1397880" cy="1285560"/>
          </a:xfrm>
        </p:grpSpPr>
        <p:sp>
          <p:nvSpPr>
            <p:cNvPr id="113" name=""/>
            <p:cNvSpPr/>
            <p:nvPr/>
          </p:nvSpPr>
          <p:spPr>
            <a:xfrm>
              <a:off x="7248600" y="3897360"/>
              <a:ext cx="41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04360" y="4543560"/>
              <a:ext cx="339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58080" y="4778280"/>
              <a:ext cx="14400" cy="1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58080" y="4956120"/>
              <a:ext cx="14400" cy="1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58080" y="4778280"/>
              <a:ext cx="14400" cy="177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31080" y="4941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63120" y="4543560"/>
              <a:ext cx="339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40600" y="4778280"/>
              <a:ext cx="14400" cy="1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40600" y="4956120"/>
              <a:ext cx="14400" cy="1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40600" y="4778280"/>
              <a:ext cx="14400" cy="177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58160" y="49417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07440" y="38847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07440" y="41590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58080" y="45576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58080" y="41590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07440" y="41590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55000" y="45576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07440" y="41590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936960" y="411012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(INT(6),INT(44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03040" y="20628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Another uniontype Declaration of Exp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240000" y="2165400"/>
            <a:ext cx="5751720" cy="2693880"/>
            <a:chOff x="3240000" y="2165400"/>
            <a:chExt cx="5751720" cy="2693880"/>
          </a:xfrm>
        </p:grpSpPr>
        <p:sp>
          <p:nvSpPr>
            <p:cNvPr id="134" name=""/>
            <p:cNvSpPr/>
            <p:nvPr/>
          </p:nvSpPr>
          <p:spPr>
            <a:xfrm>
              <a:off x="3300480" y="2287440"/>
              <a:ext cx="5691240" cy="2571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40000" y="2165400"/>
              <a:ext cx="5691240" cy="257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INTconst Integer x1;  end INTconst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PLUSop  Exp x1; Exp x2; end PLUS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SUBop   Exp x1; Exp x2; end SUB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MULop   Exp x1; Exp x2; end MUL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DIVop   Exp x1; Exp x2; end DIV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NEGop   Exp x1;         end NEG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213000" y="1316160"/>
            <a:ext cx="57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tract syntax tree data type declaration of Exp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9360" y="470700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+5*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42560" y="2158920"/>
            <a:ext cx="2989440" cy="2130480"/>
            <a:chOff x="142560" y="2158920"/>
            <a:chExt cx="2989440" cy="2130480"/>
          </a:xfrm>
        </p:grpSpPr>
        <p:sp>
          <p:nvSpPr>
            <p:cNvPr id="139" name=""/>
            <p:cNvSpPr/>
            <p:nvPr/>
          </p:nvSpPr>
          <p:spPr>
            <a:xfrm>
              <a:off x="144360" y="2158920"/>
              <a:ext cx="2987640" cy="21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03400" y="2158920"/>
              <a:ext cx="689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PLUSop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13400" y="2982960"/>
              <a:ext cx="64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MULop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2560" y="298296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4440" y="3218040"/>
              <a:ext cx="14040" cy="1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440" y="3395520"/>
              <a:ext cx="14040" cy="1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4440" y="3218040"/>
              <a:ext cx="14040" cy="177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0200" y="33829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52080" y="362916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23960" y="3863880"/>
              <a:ext cx="14400" cy="1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23960" y="4041720"/>
              <a:ext cx="14400" cy="1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23960" y="3863880"/>
              <a:ext cx="14400" cy="177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96960" y="40273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49000" y="362916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06840" y="3863880"/>
              <a:ext cx="14040" cy="18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6840" y="4041720"/>
              <a:ext cx="14040" cy="1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06840" y="3863880"/>
              <a:ext cx="14040" cy="1778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24040" y="40273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63680" y="2421000"/>
              <a:ext cx="14400" cy="12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440" y="297036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440" y="2421000"/>
              <a:ext cx="836640" cy="56196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527" h="354">
                  <a:moveTo>
                    <a:pt x="527" y="8"/>
                  </a:moveTo>
                  <a:lnTo>
                    <a:pt x="518" y="0"/>
                  </a:lnTo>
                  <a:lnTo>
                    <a:pt x="0" y="346"/>
                  </a:lnTo>
                  <a:lnTo>
                    <a:pt x="9" y="354"/>
                  </a:lnTo>
                  <a:lnTo>
                    <a:pt x="52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3680" y="2421000"/>
              <a:ext cx="14400" cy="12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8">
                  <a:moveTo>
                    <a:pt x="9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73320" y="29703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63680" y="2421000"/>
              <a:ext cx="822240" cy="56196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518" h="354">
                  <a:moveTo>
                    <a:pt x="9" y="0"/>
                  </a:moveTo>
                  <a:lnTo>
                    <a:pt x="0" y="8"/>
                  </a:lnTo>
                  <a:lnTo>
                    <a:pt x="510" y="354"/>
                  </a:lnTo>
                  <a:lnTo>
                    <a:pt x="518" y="3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73320" y="32446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3960" y="36432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23960" y="32446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73320" y="32446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20880" y="36432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73320" y="32446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66760" y="5430960"/>
            <a:ext cx="56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USop(INTconst(12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ULop(INTconst(5),INTconst(13)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0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3:07:46Z</dcterms:created>
  <dc:creator>Peter Fritzson</dc:creator>
  <dc:description/>
  <dc:language>en-US</dc:language>
  <cp:lastModifiedBy>Martin Sjölund</cp:lastModifiedBy>
  <dcterms:modified xsi:type="dcterms:W3CDTF">2009-10-21T09:02:41Z</dcterms:modified>
  <cp:revision>570</cp:revision>
  <dc:subject/>
  <dc:title>Slide 1</dc:title>
</cp:coreProperties>
</file>